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94A-FA0C-4B90-9C00-E413EB444D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heh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64E-549D-4E37-BD92-8513C4CE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21D-DCEA-47D7-87CD-803428E2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F27-9D3D-46B6-A5F0-869B5A5B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779-0857-4676-AAAA-03810D3E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023-9C83-48D3-BD67-B5E45CF3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9AC1-55D3-428D-A77A-1CFC0F7E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2E4-073F-454A-8A34-4381EFC5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E326-748C-49B5-917B-A7530DC8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9A6-5AF8-431F-9549-8CDEC80E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06B-DDBD-4BC6-B7B7-DB0A2586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444-9B05-4ABD-AEC4-67E320A8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35E-6E97-4A02-A920-5FEA9B3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1095-C2B6-42C8-A688-4807AE2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3FDC-6C97-4F68-87DD-5A02FAD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3C1F-4657-4465-A996-5090E78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8597-9F88-4FAB-B72E-306DEFEE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8577-8818-40F7-9225-C356A9A6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5F0-7492-47F8-A081-AB60853D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9EB-08FD-482B-B746-2514AAD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BC0-AC10-47EC-95FD-9468C0C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091-2063-4D7E-A836-3A24247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7CB-1BDC-4C0A-9DFB-435461E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5C4-52A5-46F6-BA0B-F025D13A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ED0-D4CC-4999-9A9E-3052866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4994-7A8B-415B-A378-6BF9CBF5B2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20C6-EFF6-4410-BE54-386F6D68B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24080" y="3429000"/>
            <a:ext cx="3048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Server ja k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741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Graafiline jututub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Liikm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2209680"/>
            <a:ext cx="3505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Tanel Too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Raul Viigipu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Mihkel Mikkels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Jututoa kasutusvõimalus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Meelelahu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Kommunikatsi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Konverent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E02097_" descr=""/>
          <p:cNvPicPr/>
          <p:nvPr/>
        </p:nvPicPr>
        <p:blipFill>
          <a:blip r:embed="rId4"/>
          <a:stretch/>
        </p:blipFill>
        <p:spPr>
          <a:xfrm>
            <a:off x="464832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Nõud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Arvu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Võrguühen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Java Runtime vähemalt 1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java2" descr=""/>
          <p:cNvPicPr/>
          <p:nvPr/>
        </p:nvPicPr>
        <p:blipFill>
          <a:blip r:embed="rId4"/>
          <a:stretch/>
        </p:blipFill>
        <p:spPr>
          <a:xfrm>
            <a:off x="6781680" y="2514600"/>
            <a:ext cx="1587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Serv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ujundus Swing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asutatavad klass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JS põhik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Jutuka lõ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Kasutajad – objekt kasutaja andmete hoidmis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ärkimisväärsed omad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etailne ülevaade kasutajate tegemis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aab lisada he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Kasutajate ahist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ristab Klienti ja telne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Kli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ujundus: Aw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asutatavad klass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JSClient põhik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õ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ärkimisväärsed omad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Privaatteated teistele kasutajatele (automaatsel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ktiivsete kasutajate  kuv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õimalus edaspidi kasutada proxy server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2970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Koodi dem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047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¿¿¿ Küsimused ??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7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Täname kuulama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4:05:51Z</dcterms:created>
  <dc:creator>arvutisaal</dc:creator>
  <dc:description/>
  <dc:language>en-US</dc:language>
  <cp:lastModifiedBy>Arvutiklass P415</cp:lastModifiedBy>
  <dcterms:modified xsi:type="dcterms:W3CDTF">2003-12-16T07:59:43Z</dcterms:modified>
  <cp:revision>6</cp:revision>
  <dc:subject/>
  <dc:title>Graafiline jutukas</dc:title>
</cp:coreProperties>
</file>