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EF3-6624-4A2B-BA69-0BF254F3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318-0D99-41B3-B6F1-8427D43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1EE-07A6-4E93-8BFF-C5FD528D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913-4C74-4D69-A425-AF8482EF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C9A-0A48-40A8-B5E9-1AD8906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A1D-BA28-41A6-8BDC-AD6B895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47E-086B-4515-AB09-CA829912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632-EC46-468E-94B2-FE64E728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46F-1DC6-4F44-8CD4-8B819C7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561-6C96-4F02-9467-00B7972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0A8-BD6A-46DB-996F-0A612FF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8C0-75B3-48BB-9884-13C0D91A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EBA3-C593-4274-A8F2-47DF4EA0A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ALGARV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590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asutatud on algarve vahemikus 1 – 3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505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äitlikkuse huvides on võetud graafikute koostamisel vahemikuks 1 – 25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105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garvud on leitud koostöös failiga alg.exe ning asuvad failis tervitus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5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lain" startAt="1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79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00 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47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00000 -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12997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04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õned algarv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Times New Roman"/>
              </a:rPr>
              <a:t>Vahe 2e järjestikkuse algarvu va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120" y="1143000"/>
          <a:ext cx="7580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58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5800" y="5562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Järeldub, et enamik algarvude vahedest jääb vahesse 1 -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500" spc="-1" strike="noStrike">
                <a:solidFill>
                  <a:srgbClr val="000000"/>
                </a:solidFill>
                <a:latin typeface="Times New Roman"/>
              </a:rPr>
              <a:t>Vahe 2e järjestikkuse algarvu vah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324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5257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lates 3-st on kahe järjestikkuse algarvu vahe alati paarisarv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Algarvude hulgas leidub  ainult  1 paarisarv!</a:t>
            </a:r>
            <a:br>
              <a:rPr sz="4400"/>
            </a:br>
            <a:br>
              <a:rPr sz="4400"/>
            </a:br>
            <a:r>
              <a:rPr b="0" lang="et-EE" sz="5400" spc="-1" strike="noStrike">
                <a:solidFill>
                  <a:srgbClr val="000000"/>
                </a:solidFill>
                <a:latin typeface="Times New Roman"/>
              </a:rPr>
              <a:t>See on 2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5400" spc="-1" strike="noStrike">
                <a:solidFill>
                  <a:srgbClr val="000000"/>
                </a:solidFill>
                <a:latin typeface="Times New Roman"/>
              </a:rPr>
              <a:t>Jaotumis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Mida suuremaks muutuvad algarvud, seda vähem leidub neid ühes kindlas vahemi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09680" y="3352680"/>
          <a:ext cx="462456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62456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õik selleks korrak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09:59:40Z</dcterms:created>
  <dc:creator>tudeng</dc:creator>
  <dc:description/>
  <dc:language>en-US</dc:language>
  <cp:lastModifiedBy>tudeng</cp:lastModifiedBy>
  <dcterms:modified xsi:type="dcterms:W3CDTF">2004-02-11T10:31:40Z</dcterms:modified>
  <cp:revision>8</cp:revision>
  <dc:subject/>
  <dc:title>ALGARVUD</dc:title>
</cp:coreProperties>
</file>