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F0A-0A25-4C23-A293-060CC6DF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711-71D1-4797-84B8-E5E8A278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F39-49BE-41F0-A950-F9DBA1BD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F34-3CC7-40BA-B06F-CC1CF488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47D-DE83-42C6-ABD6-A5F3FD28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3151-4BF2-4032-8D4D-2B1D85DE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4D5F-8356-46EA-B113-EC0187AE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7FBC-5CED-4A35-B2D5-6143A2D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2DE-DCE4-4A74-98D9-7405C3AE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01D8-AE6E-45B5-ACE8-DD35C5F0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C65-DB00-4319-9894-E070169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CEF-38B2-4E75-90C0-EE64D12F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4973-97D5-4F7D-9F9D-0F7A371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9CD-47BA-48B4-8E30-A2057A9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B5D0-636A-46C8-9F2B-F8AF386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F9A-DB28-442A-BDB8-9F16D5F0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CFA0-FEA5-48DD-BC1C-750DD6D5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35A-BCA5-47B3-80AD-BA05775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97F-EFD7-4FD5-B684-FE130C6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F36-506F-41BC-A131-02EEB9E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C32-A10B-4456-9938-D6D290D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73F-74C9-42E1-BBE4-0E98244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1E8-C64F-4B34-B5CE-EA9CA009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431-C7E3-41D9-BF0B-F61597E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081E-0B14-4872-8956-DE2B7A6A1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927-8BB3-48EC-ACC6-6F7D8E4A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221304"/>
                </a:solidFill>
                <a:latin typeface="Lithograph"/>
              </a:rPr>
              <a:t>Kolm kappi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Grup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21%-53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0,8%-35,8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2,0%-34,2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3,26%-33,43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KAPP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KAPP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KAPP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ULEMUSTE ANALÜÜ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1. ÜLESANDE PÕHJAL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MIDA SUUREMAKS KATSETE HULK LÄKS SEDA ROHKEM OLI ÕIGETE PROTSENT LÄHEMAL 33,33(1/3)-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39%-62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6,1%-53,3% õige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õenäosu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 ÜLESANDEG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8,9%-51,4% õig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1000000. kats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49,91%-50,10% õigeid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KAPP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KAPP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KAPP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221304"/>
                </a:solidFill>
                <a:latin typeface="Lithograph"/>
              </a:rPr>
              <a:t>TULEMUSTE ANALÜÜS</a:t>
            </a:r>
            <a:br>
              <a:rPr sz="4400"/>
            </a:br>
            <a:r>
              <a:rPr b="0" lang="et-EE" sz="3600" spc="-1" strike="noStrike">
                <a:solidFill>
                  <a:srgbClr val="221304"/>
                </a:solidFill>
                <a:latin typeface="Lithograph"/>
              </a:rPr>
              <a:t>2.ÜLESANDE PÕHJAL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Lithograph"/>
              </a:rPr>
              <a:t>MIDA SUUREMAKS KATSETE HULK LÄKS SEDA ROHKEM OLI ÕIGETE PROTSENT LÄHEMAL 50-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08:04:18Z</dcterms:created>
  <dc:creator>tudeng</dc:creator>
  <dc:description/>
  <dc:language>en-US</dc:language>
  <cp:lastModifiedBy>tudeng</cp:lastModifiedBy>
  <dcterms:modified xsi:type="dcterms:W3CDTF">2004-03-31T08:58:51Z</dcterms:modified>
  <cp:revision>2</cp:revision>
  <dc:subject/>
  <dc:title>Kolm kappi</dc:title>
</cp:coreProperties>
</file>